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F075-2756-47A5-A0C0-66ACEF0B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C2F6-0EDC-443C-9ABB-CADE4A6E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131-B277-4B69-BC8F-E4EF3452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100E-49AF-450E-AA48-8A27CE7C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93B9-EF4F-454E-839E-0E3BE75E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915-320A-4D58-A31C-BF1E2C8B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6720-55C7-43E0-973B-2CD623B0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5B8C-0AE7-4341-93BD-EF13CD04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B214-D751-409C-9DDA-9C11DD56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889D-3522-43D5-A0C0-7EFCE9FA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2613-C970-4537-A7FE-D2E7ECE9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5757-7107-4C37-9BA5-EADB572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49019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58C9-DF45-4AF6-83FA-3C43B4976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5029200"/>
            <a:ext cx="914400" cy="9144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4343400"/>
            <a:ext cx="457200" cy="4572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14400" y="3886200"/>
            <a:ext cx="30492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781680" y="4876920"/>
            <a:ext cx="2133720" cy="2209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3886200"/>
            <a:ext cx="1143000" cy="11430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7848720" y="2971800"/>
            <a:ext cx="685800" cy="6858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7620120" y="2057400"/>
            <a:ext cx="304560" cy="30492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5943600" y="4876920"/>
            <a:ext cx="762120" cy="76176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5410080" y="4419720"/>
            <a:ext cx="381240" cy="38088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5562720" y="3886200"/>
            <a:ext cx="228600" cy="228600"/>
          </a:xfrm>
          <a:prstGeom prst="ellipse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-304920" y="-533520"/>
            <a:ext cx="1600200" cy="1600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2971800" y="533520"/>
            <a:ext cx="1066680" cy="106668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6095880" y="152280"/>
            <a:ext cx="457200" cy="457200"/>
          </a:xfrm>
          <a:prstGeom prst="ellipse">
            <a:avLst/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. Et leurs Inventeurs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exandru Pascadi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e 7-ème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8077320" cy="14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Des Inventions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4d4d4d">
                      <a:alpha val="50000"/>
                    </a:srgbClr>
                  </a:outerShdw>
                </a:effectLst>
                <a:latin typeface="Arial Black"/>
              </a:rPr>
              <a:t>Révolutionnair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53753" dir="2700000" blurRad="0" rotWithShape="0">
                  <a:srgbClr val="4d4d4d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éléphone 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scientifiques ont contribué à l'invention du téléphone. Le plus important a été Alexander Graham Bell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lexander Graham Bell a inventé le premier téléphone pratique vers 1876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est bien connu pour les mots célèbres &lt;&lt; Watson, vien ici! Je veux te voir! &gt;&gt; , qu’il a dit pour tester son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0880" y="184320"/>
            <a:ext cx="1825920" cy="1568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629400" y="5029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80880" y="51055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6781680" y="122400"/>
            <a:ext cx="218772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Ampoul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’Ampoule a été inventé en 1879 par Thomas Alva Edison, qui a été un inventeur américain et homme d'affaires important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dison a inventé aussi la phonographe, la duplex télégraphe système et plusieurs d’autr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tebulb"/>
          <p:cNvSpPr/>
          <p:nvPr/>
        </p:nvSpPr>
        <p:spPr>
          <a:xfrm rot="772200">
            <a:off x="914400" y="380520"/>
            <a:ext cx="1233360" cy="17766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9492200">
            <a:off x="6172200" y="4723920"/>
            <a:ext cx="17524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’Ordinateur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l y a eu plusieurs étapes dans l'évolution de l'ordinateur: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 ordinateur programmable a été inventé en 1936 par Konrad Zuse en Allemagn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 premier ordinateur programmable électrique (Colossus) a été inventé par Tommy Flowers vers 1943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premier ordinateur avec des programs stocké (EDSAC) a été inventé vers 1949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361200" y="4648320"/>
            <a:ext cx="1944720" cy="1985760"/>
          </a:xfrm>
          <a:prstGeom prst="rect">
            <a:avLst/>
          </a:prstGeom>
          <a:ln w="0">
            <a:noFill/>
          </a:ln>
        </p:spPr>
      </p:pic>
      <p:sp>
        <p:nvSpPr>
          <p:cNvPr id="70" name="laptop"/>
          <p:cNvSpPr/>
          <p:nvPr/>
        </p:nvSpPr>
        <p:spPr>
          <a:xfrm>
            <a:off x="685800" y="4952880"/>
            <a:ext cx="2133720" cy="1667160"/>
          </a:xfrm>
          <a:prstGeom prst="pi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e TV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a télévision est apparu dans Europe vers 1930 et dans Amerique après la Seconde Guerre mondiale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s inventeurs du TV et de la télévision ne sont pas connus.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lusieurs de personnes ont assisté à leur invention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638680" y="2590920"/>
            <a:ext cx="1586160" cy="1646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066680" y="122400"/>
            <a:ext cx="1914480" cy="16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 Voiture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eaucoup de personnes ont contribué à l’invention de la voiture:</a:t>
            </a:r>
            <a:br>
              <a:rPr sz="1800"/>
            </a:b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769, Nicolas-Joseph Cugnot a construit le premier véhicule routier avec de propulsion automatique;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32, Robert Anderson a inventé la première chariot électriqu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 1885, Karl Friedrich Benz a inventé la première voiture vraie, qui fonctionnait à l'essence. 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914400" y="4800600"/>
            <a:ext cx="3124080" cy="192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5486400" y="4800600"/>
            <a:ext cx="2819520" cy="16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4:53:34Z</dcterms:created>
  <dc:creator>User</dc:creator>
  <dc:description/>
  <dc:language>en-US</dc:language>
  <cp:lastModifiedBy>User</cp:lastModifiedBy>
  <dcterms:modified xsi:type="dcterms:W3CDTF">2012-05-07T17:13:03Z</dcterms:modified>
  <cp:revision>12</cp:revision>
  <dc:subject/>
  <dc:title>Slide 1</dc:title>
</cp:coreProperties>
</file>